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4291-5B82-4E96-BA7D-9D18067D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0B08-53F0-4885-B398-20DB5FAF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4A5-F704-4F43-B24C-81B9480C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262-8DBA-4A9A-BC85-40ECC5DA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238-C51E-489C-B68E-CC3D5C54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BA1-D15F-46E9-A6EA-D1E04A5C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76AC-7829-42F3-8B4C-DECE3563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F9F-8B46-42E2-BD8A-1359BF29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024-AA67-41D5-8985-7C81CC45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623-6F16-4C1B-ABBC-2C570A09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86B-495D-40BD-833A-BEA26ADD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520-D531-48C8-BAA2-A4560B1B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11D4-98F1-4676-BD94-F58A9DF16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mericanhistory.si.edu/brown/history/4-five/topeka-kansas-2.html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supremecourthistory.org/02_history/subs_history/images_photos/c_13b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hurgoodmarshall.com/home.htm" TargetMode="External"/><Relationship Id="rId2" Type="http://schemas.openxmlformats.org/officeDocument/2006/relationships/hyperlink" Target="http://campus.northpark.edu/history/WebChron/USA/14Ammend.htm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cm.bc.edu/issues/summer_2004/ft_brown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fricanamericans.com/LindaBrown.htm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ocialjustice.ccnmtl.columbia.edu/images/5/53/Thurgood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law.harvard.edu/library/collections/special/exhibitions/portrait_exhibit/Thurgood_Marshall.php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r.nps.gov/nr/travel/civilrights/" TargetMode="External"/><Relationship Id="rId2" Type="http://schemas.openxmlformats.org/officeDocument/2006/relationships/hyperlink" Target="http://www.supremecourtus.gov/" TargetMode="External"/><Relationship Id="rId3" Type="http://schemas.openxmlformats.org/officeDocument/2006/relationships/hyperlink" Target="http://campus.northpark.edu/history/WebChron/USA/PlessyFerguson.html" TargetMode="External"/><Relationship Id="rId4" Type="http://schemas.openxmlformats.org/officeDocument/2006/relationships/hyperlink" Target="http://memory.loc.gov/pnp/ppmsc/00200/00209r.jpg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cweb2.loc.gov/pnp/ppmsc/00200/00219r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cweb2.loc.gov/pnp/ppmsc/00200/00213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cweb2.loc.gov/pnp/ppmsc/00200/00200r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mericanhistory.si.edu/brown/history/6-legacy/images/doorcartoon-lg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acp.org/" TargetMode="External"/><Relationship Id="rId2" Type="http://schemas.openxmlformats.org/officeDocument/2006/relationships/hyperlink" Target="http://brownvboard.org/" TargetMode="External"/><Relationship Id="rId3" Type="http://schemas.openxmlformats.org/officeDocument/2006/relationships/hyperlink" Target="http://www.albany.edu/~naacp/images/naacp-logo.gif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752480" y="50760"/>
            <a:ext cx="571500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n the case, Oliver Brown challenged that his daughter, Linda, should be allowed to attend an all-white school near her home instead of the distant all-black school she had been assigned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Photo, Oliver Brown">
            <a:hlinkClick r:id="rId1"/>
          </p:cNvPr>
          <p:cNvPicPr/>
          <p:nvPr/>
        </p:nvPicPr>
        <p:blipFill>
          <a:blip r:embed="rId2"/>
          <a:srcRect l="16643" t="3446" r="18533" b="22501"/>
          <a:stretch/>
        </p:blipFill>
        <p:spPr>
          <a:xfrm>
            <a:off x="4114800" y="2057400"/>
            <a:ext cx="2133720" cy="327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6324480" y="1981080"/>
            <a:ext cx="2819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liver Brown was a welder for the Santa Fe Railroad and a part-time assistant pastor at St. John African Methodist Episcopal Chur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_13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2057400"/>
            <a:ext cx="2741760" cy="30448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0" y="5057640"/>
            <a:ext cx="386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nda Brown was in the third grade when her father began his class action lawsu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800600" y="0"/>
            <a:ext cx="4343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 Brown’s lawyer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Thurgood Marsh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rgued that “separate” could never be “equal” and that segregated schools violated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Fourteenth Amend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s guarantee to provide “equal protection” to all citiz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5" descr="brown_v_boe_ThurgoodMarshall5"/>
          <p:cNvPicPr/>
          <p:nvPr/>
        </p:nvPicPr>
        <p:blipFill>
          <a:blip r:embed="rId3"/>
          <a:stretch/>
        </p:blipFill>
        <p:spPr>
          <a:xfrm>
            <a:off x="0" y="0"/>
            <a:ext cx="4800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tanding outside a Topeka classroom in 1953 are the students represented in Oliver Brown et al. v. Board of Education of Topeka, Shawnee County, Kansas et al. From left: Vicki Henderson, Donald Henderson, Linda Brown (Oliver's daughter), James Emanuel, Nancy Todd, and Katherine Carper. Photo by Carl Iwasaki/Time Life Pictures/Getty Im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246640" cy="6851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257800" y="0"/>
            <a:ext cx="3886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nding outside a Topeka classroom in 1953 are the students represented in Oliver Brown et al. v. Board of Education of Topeka, From left: Vicki Henderson, Donald Henderson, Linda Brown (Oliver's daughter), James Emanuel, Nancy Todd, and Katherine Carp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5486400" y="0"/>
            <a:ext cx="3657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In 1954, the Supreme Court ruled in favor of the Brown family, and schools nationwide were ordered to be desegregat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cr0009s"/>
          <p:cNvPicPr/>
          <p:nvPr/>
        </p:nvPicPr>
        <p:blipFill>
          <a:blip r:embed="rId1"/>
          <a:stretch/>
        </p:blipFill>
        <p:spPr>
          <a:xfrm>
            <a:off x="0" y="0"/>
            <a:ext cx="5475240" cy="6854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5486400" y="457200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orge E.C. Hayes, Thurgood Marshall, and James M. Nabrit, following Supreme Court decision ending segreg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African Americans - Brown v. Board of Education's Linda Brown as a child in 1954 and her new class mates after Court decision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0760" cy="4530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4723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nda Brown and her new class mates after Court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Thurgoo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6480"/>
            <a:ext cx="4670280" cy="6851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5334120" y="0"/>
            <a:ext cx="38098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urgood Marshall</a:t>
            </a:r>
            <a:br>
              <a:rPr sz="36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1908-1993)                                   Associate Justice,               U.S. Supreme Cou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Thurgood_Marshal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40"/>
            <a:ext cx="5348160" cy="6854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"/>
          <p:cNvPicPr/>
          <p:nvPr/>
        </p:nvPicPr>
        <p:blipFill>
          <a:blip r:embed="rId5"/>
          <a:stretch/>
        </p:blipFill>
        <p:spPr>
          <a:xfrm>
            <a:off x="0" y="0"/>
            <a:ext cx="509112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440" y="-9828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grated schoo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 In Little Rock, Arkansas, Gov. Orval Faubus opposed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1101570923_400"/>
          <p:cNvPicPr/>
          <p:nvPr/>
        </p:nvPicPr>
        <p:blipFill>
          <a:blip r:embed="rId1"/>
          <a:stretch/>
        </p:blipFill>
        <p:spPr>
          <a:xfrm>
            <a:off x="3943440" y="0"/>
            <a:ext cx="520056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44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Gov. Faubus was violating federal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 In 1957, he called out the National Guard in order to prevent African Americans from attending an all-white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elizabethandhazel"/>
          <p:cNvPicPr/>
          <p:nvPr/>
        </p:nvPicPr>
        <p:blipFill>
          <a:blip r:embed="rId1"/>
          <a:stretch/>
        </p:blipFill>
        <p:spPr>
          <a:xfrm>
            <a:off x="838080" y="1957320"/>
            <a:ext cx="731376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AR_Little_Rock_Nine"/>
          <p:cNvPicPr/>
          <p:nvPr/>
        </p:nvPicPr>
        <p:blipFill>
          <a:blip r:embed="rId1"/>
          <a:stretch/>
        </p:blipFill>
        <p:spPr>
          <a:xfrm>
            <a:off x="1828800" y="0"/>
            <a:ext cx="6095880" cy="54770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ottom Row, Left to Right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lma Mothershed, Minnijean Brown, Elizabeth Eckford, Gloria Ray; Top Row, Left to Right: Jefferson Thomas, Melba Pattillo, Terrence Roberts, Carlotta Walls, Daisy Bates(NAACP President), Ernest Gr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· Therefore, Pres. Eisenhower sent troops to Little Rock where, under their protection, the African American students were able to enter Central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r0013s"/>
          <p:cNvPicPr/>
          <p:nvPr/>
        </p:nvPicPr>
        <p:blipFill>
          <a:blip r:embed="rId1"/>
          <a:stretch/>
        </p:blipFill>
        <p:spPr>
          <a:xfrm>
            <a:off x="1905120" y="1752480"/>
            <a:ext cx="7238880" cy="4819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0" y="2819520"/>
            <a:ext cx="19051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frican American students arriving at Central High School, Little Rock, Arkansas, in U.S. Army car, 1957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name the rights guaranteed in the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3520" y="3124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explain the 1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1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&amp; 1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mend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Little_Rock_Nine_Escorting"/>
          <p:cNvPicPr/>
          <p:nvPr/>
        </p:nvPicPr>
        <p:blipFill>
          <a:blip r:embed="rId1"/>
          <a:stretch/>
        </p:blipFill>
        <p:spPr>
          <a:xfrm>
            <a:off x="3240" y="0"/>
            <a:ext cx="9140760" cy="7178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Members of the 101st US-Airborne Division escorting the Little Rock Nine to scho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ion of the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DIXIECR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3300"/>
                </a:solidFill>
                <a:uFillTx/>
                <a:latin typeface="Arial"/>
              </a:rPr>
              <a:t>The States' Rights Democratic Par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commonly known as the Dixiecrats) was a segregationist, socially conservative political party in the southern part of the United Sta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greg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E FACTO SEGREG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paration natural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DE JURE SEGREG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eparation by l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jor Vi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143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African Americans continued their struggle for equality, which became known as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civil rights movement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105520" y="243828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· In 1896,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upreme Cou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d 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lessy v. Fergu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“separate but equal” facilities for blacks and whites were constitu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00209r">
            <a:hlinkClick r:id="rId4"/>
          </p:cNvPr>
          <p:cNvPicPr/>
          <p:nvPr/>
        </p:nvPicPr>
        <p:blipFill>
          <a:blip r:embed="rId5"/>
          <a:srcRect l="16496" t="23026" r="17500" b="40611"/>
          <a:stretch/>
        </p:blipFill>
        <p:spPr>
          <a:xfrm>
            <a:off x="0" y="2133720"/>
            <a:ext cx="50277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llenging the la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0" y="505764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Sign at the Greyhound Bus Station, Rome, Georgia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ptember 1943. (Esther Bubley, photograp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00219r">
            <a:hlinkClick r:id="rId1"/>
          </p:cNvPr>
          <p:cNvPicPr/>
          <p:nvPr/>
        </p:nvPicPr>
        <p:blipFill>
          <a:blip r:embed="rId2"/>
          <a:srcRect l="15906" t="0" r="6667" b="2689"/>
          <a:stretch/>
        </p:blipFill>
        <p:spPr>
          <a:xfrm>
            <a:off x="0" y="0"/>
            <a:ext cx="6883560" cy="6415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6858000" y="1703520"/>
            <a:ext cx="2286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"The Rex theater for Negro People." Leland, Mississippi, November 1939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ion Post Wolcott, photographer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0213r">
            <a:hlinkClick r:id="rId1"/>
          </p:cNvPr>
          <p:cNvPicPr/>
          <p:nvPr/>
        </p:nvPicPr>
        <p:blipFill>
          <a:blip r:embed="rId2"/>
          <a:srcRect l="9344" t="13294" r="17349" b="0"/>
          <a:stretch/>
        </p:blipFill>
        <p:spPr>
          <a:xfrm>
            <a:off x="838080" y="0"/>
            <a:ext cx="7313760" cy="5821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"A cafe near the tobacco market.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urham, North Carolina. May 194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00200r">
            <a:hlinkClick r:id="rId1"/>
          </p:cNvPr>
          <p:cNvPicPr/>
          <p:nvPr/>
        </p:nvPicPr>
        <p:blipFill>
          <a:blip r:embed="rId2"/>
          <a:srcRect l="1985" t="2008" r="1985" b="2008"/>
          <a:stretch/>
        </p:blipFill>
        <p:spPr>
          <a:xfrm>
            <a:off x="2057400" y="0"/>
            <a:ext cx="5334120" cy="5486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0" y="54864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" People waiting for a bus at the Greyhound bus terminal."        Memphis, Tennessee. September 1943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sther Bubley, photograp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34120" y="0"/>
            <a:ext cx="38098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n v. Board of Education of Topeka, 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doorcartoon-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3388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· With help from the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NAAC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case of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Brown v. Board of Education of Topek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ached the Supreme Court, challenging the constitutionality of Plessy v. Fergu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naacp-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2095560"/>
            <a:ext cx="4876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03:05:28Z</dcterms:created>
  <dc:creator>Adam Berlin</dc:creator>
  <dc:description/>
  <dc:language>en-US</dc:language>
  <cp:lastModifiedBy>SysAdmin</cp:lastModifiedBy>
  <dcterms:modified xsi:type="dcterms:W3CDTF">2011-11-29T13:23:45Z</dcterms:modified>
  <cp:revision>54</cp:revision>
  <dc:subject/>
  <dc:title>Slide 1</dc:title>
</cp:coreProperties>
</file>